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4.png" ContentType="image/png"/>
  <Override PartName="/ppt/media/image18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12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.png" ContentType="image/png"/>
  <Override PartName="/ppt/media/image20.png" ContentType="image/png"/>
  <Override PartName="/ppt/media/image2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3.png" ContentType="image/png"/>
  <Override PartName="/ppt/media/image24.jpeg" ContentType="image/jpeg"/>
  <Override PartName="/ppt/media/image22.png" ContentType="image/png"/>
  <Override PartName="/ppt/media/image25.png" ContentType="image/png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224F-1DB5-4B5E-95F1-82F1B832F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D241-396F-4A53-8DCB-74E783BB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4ACC-09EB-4B16-AF03-7F68828D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6FD0-BC34-41A6-A50B-C3519697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C666-9E66-4195-A830-6CCD22B10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AAF6-A082-4436-8C0B-789E7038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F833-7965-46FB-9D01-EFF7D0D4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1444-ED04-4F8C-A243-FF7BC9EE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4D24-2DEB-4C21-BD7D-58F33BC7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37B5-F84D-4055-8327-F19676BD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9FDD-68B0-44BD-A0D7-666CD62A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B6E8-2B14-4BD0-80DA-99AD6B74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446F-E9B7-49EC-A957-29A6877D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1E22-211F-41DF-BE4C-25C60411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CFE3-E977-46DB-A3E9-DB59E17A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4DF7-C02E-4720-B4F6-055DB845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8B11-BEC4-4CE7-B464-15112AEA1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1412-9271-42A9-B746-A8519BB5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8E38-B1A8-449C-BCBB-E89E79E3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7D25-8FD8-4C06-B4B4-BBB52014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4282-8F3A-44D1-8B07-D9C116B7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E6D5-2BF3-423E-81BB-12B171B4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2720-72EA-4831-9F70-A16CD4E5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841A-D3B7-42FF-BA70-5AA7A516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8c8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4651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8f8f8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8f8f8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7795-73C2-4B21-8758-A45F84B212F9}" type="slidenum">
              <a:rPr b="0" lang="en-US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8c8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4651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CEB8-478D-4D84-94E2-DCD3B13C8646}" type="slidenum">
              <a:rPr b="0" lang="en-US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f8f8f8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f8f8f8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f8f8f8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f8f8f8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f8f8f8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f8f8f8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e/Murex_sp.jpg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1447560"/>
            <a:ext cx="8077320" cy="2152440"/>
          </a:xfrm>
          <a:prstGeom prst="rect">
            <a:avLst/>
          </a:prstGeom>
          <a:solidFill>
            <a:srgbClr val="2a285a">
              <a:alpha val="75000"/>
            </a:srgbClr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haracteristics of Civilization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Hebrews and Phoenicia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7432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Mr. Pagliaro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Seymour High School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04920" y="166680"/>
            <a:ext cx="85341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f8f8"/>
                </a:solidFill>
                <a:latin typeface="Arial"/>
              </a:rPr>
              <a:t>Famine</a:t>
            </a:r>
            <a:r>
              <a:rPr b="1" lang="en-US" sz="48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1" lang="en-US" sz="4800" spc="-1" strike="noStrike">
                <a:solidFill>
                  <a:srgbClr val="f8f8f8"/>
                </a:solidFill>
                <a:latin typeface="Arial"/>
              </a:rPr>
              <a:t>Migration to Goshen, Egypt</a:t>
            </a:r>
            <a:endParaRPr b="0" lang="en-US" sz="4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32143" t="1502" r="1789" b="14613"/>
          <a:stretch/>
        </p:blipFill>
        <p:spPr>
          <a:xfrm>
            <a:off x="2133720" y="2556000"/>
            <a:ext cx="5715000" cy="4302000"/>
          </a:xfrm>
          <a:prstGeom prst="rect">
            <a:avLst/>
          </a:prstGeom>
          <a:ln w="9360">
            <a:solidFill>
              <a:srgbClr val="2a285a"/>
            </a:solidFill>
            <a:miter/>
          </a:ln>
        </p:spPr>
      </p:pic>
      <p:sp>
        <p:nvSpPr>
          <p:cNvPr id="164" name=""/>
          <p:cNvSpPr/>
          <p:nvPr/>
        </p:nvSpPr>
        <p:spPr>
          <a:xfrm>
            <a:off x="3657600" y="3809880"/>
            <a:ext cx="1143000" cy="1143000"/>
          </a:xfrm>
          <a:prstGeom prst="rect">
            <a:avLst/>
          </a:prstGeom>
          <a:noFill/>
          <a:ln w="38160">
            <a:solidFill>
              <a:srgbClr val="e82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04920" y="106200"/>
            <a:ext cx="853416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8f8f8"/>
                </a:solidFill>
                <a:latin typeface="Arial"/>
              </a:rPr>
              <a:t>Moses</a:t>
            </a:r>
            <a:endParaRPr b="0" lang="en-US" sz="5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288040" y="1081080"/>
            <a:ext cx="3170160" cy="4902120"/>
          </a:xfrm>
          <a:prstGeom prst="rect">
            <a:avLst/>
          </a:prstGeom>
          <a:ln w="9360">
            <a:solidFill>
              <a:srgbClr val="2a285a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2">
            <a:lum contrast="6000"/>
          </a:blip>
          <a:srcRect l="4764" t="2835" r="7006" b="3412"/>
          <a:stretch/>
        </p:blipFill>
        <p:spPr>
          <a:xfrm>
            <a:off x="914400" y="1219320"/>
            <a:ext cx="2819520" cy="4572000"/>
          </a:xfrm>
          <a:prstGeom prst="rect">
            <a:avLst/>
          </a:prstGeom>
          <a:ln w="9360">
            <a:solidFill>
              <a:srgbClr val="2a285a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4191120" y="3290760"/>
            <a:ext cx="6858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6110280"/>
            <a:ext cx="33530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a88"/>
                </a:solidFill>
                <a:latin typeface="Architect"/>
              </a:rPr>
              <a:t>“</a:t>
            </a:r>
            <a:r>
              <a:rPr b="1" lang="en-US" sz="2800" spc="-1" strike="noStrike">
                <a:solidFill>
                  <a:srgbClr val="effa88"/>
                </a:solidFill>
                <a:latin typeface="Architect"/>
              </a:rPr>
              <a:t>Prince of Egypt”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76920" y="6110280"/>
            <a:ext cx="40384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a88"/>
                </a:solidFill>
                <a:latin typeface="Architect"/>
              </a:rPr>
              <a:t>“</a:t>
            </a:r>
            <a:r>
              <a:rPr b="1" lang="en-US" sz="2800" spc="-1" strike="noStrike">
                <a:solidFill>
                  <a:srgbClr val="effa88"/>
                </a:solidFill>
                <a:latin typeface="Architect"/>
              </a:rPr>
              <a:t>Shepherd of His People”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2895480"/>
            <a:ext cx="1143000" cy="990720"/>
          </a:xfrm>
          <a:prstGeom prst="rightArrow">
            <a:avLst>
              <a:gd name="adj1" fmla="val 50000"/>
              <a:gd name="adj2" fmla="val 28843"/>
            </a:avLst>
          </a:prstGeom>
          <a:solidFill>
            <a:srgbClr val="ffff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04920" y="166680"/>
            <a:ext cx="8534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The Exodus-Hebrews out of Egypt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724280" y="3124080"/>
            <a:ext cx="4191120" cy="3200400"/>
          </a:xfrm>
          <a:prstGeom prst="rect">
            <a:avLst/>
          </a:prstGeom>
          <a:ln w="9360">
            <a:solidFill>
              <a:srgbClr val="2a285a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80880" y="1219320"/>
            <a:ext cx="4343400" cy="3249360"/>
          </a:xfrm>
          <a:prstGeom prst="rect">
            <a:avLst/>
          </a:prstGeom>
          <a:ln w="9360">
            <a:solidFill>
              <a:srgbClr val="2a285a"/>
            </a:solidFill>
            <a:miter/>
          </a:ln>
        </p:spPr>
      </p:pic>
      <p:sp>
        <p:nvSpPr>
          <p:cNvPr id="175" name=""/>
          <p:cNvSpPr/>
          <p:nvPr/>
        </p:nvSpPr>
        <p:spPr>
          <a:xfrm>
            <a:off x="5029200" y="121932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c. 1400s or 1300s BC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04920" y="166680"/>
            <a:ext cx="8534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f8f8"/>
                </a:solidFill>
                <a:latin typeface="Arial"/>
              </a:rPr>
              <a:t>Route of the Exodus</a:t>
            </a:r>
            <a:endParaRPr b="0" lang="en-US" sz="4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609480" y="1062000"/>
            <a:ext cx="8096400" cy="5437080"/>
          </a:xfrm>
          <a:prstGeom prst="rect">
            <a:avLst/>
          </a:prstGeom>
          <a:ln w="9360">
            <a:solidFill>
              <a:srgbClr val="2a285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04920" y="166680"/>
            <a:ext cx="85341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f8f8"/>
                </a:solidFill>
                <a:latin typeface="Arial"/>
              </a:rPr>
              <a:t>Moses and the 10 Commandments</a:t>
            </a:r>
            <a:endParaRPr b="0" lang="en-US" sz="4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30600" y="1676520"/>
            <a:ext cx="3683160" cy="4952880"/>
          </a:xfrm>
          <a:prstGeom prst="rect">
            <a:avLst/>
          </a:prstGeom>
          <a:ln w="9360">
            <a:solidFill>
              <a:srgbClr val="2a285a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3581280" cy="2666880"/>
          </a:xfrm>
          <a:prstGeom prst="rect">
            <a:avLst/>
          </a:prstGeom>
          <a:ln w="9360">
            <a:solidFill>
              <a:srgbClr val="2a285a"/>
            </a:solidFill>
            <a:miter/>
          </a:ln>
        </p:spPr>
      </p:pic>
      <p:sp>
        <p:nvSpPr>
          <p:cNvPr id="181" name=""/>
          <p:cNvSpPr/>
          <p:nvPr/>
        </p:nvSpPr>
        <p:spPr>
          <a:xfrm>
            <a:off x="533520" y="4724280"/>
            <a:ext cx="3429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a88"/>
                </a:solidFill>
                <a:latin typeface="Architect"/>
              </a:rPr>
              <a:t>A new “covenant” with Yahweh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brew Kings</a:t>
            </a:r>
            <a:br>
              <a:rPr sz="36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1030-930 BC (the Golden Ag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 algn="ctr">
              <a:spcBef>
                <a:spcPts val="1026"/>
              </a:spcBef>
              <a:buClr>
                <a:srgbClr val="ffffff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8f8f8"/>
                </a:solidFill>
                <a:latin typeface="Verdana"/>
              </a:rPr>
              <a:t>Saul</a:t>
            </a:r>
            <a:endParaRPr b="0" lang="en-US" sz="4100" spc="-1" strike="noStrike">
              <a:solidFill>
                <a:srgbClr val="f8f8f8"/>
              </a:solidFill>
              <a:latin typeface="Verdana"/>
            </a:endParaRPr>
          </a:p>
          <a:p>
            <a:pPr marL="552600" indent="-552600" algn="ctr">
              <a:spcBef>
                <a:spcPts val="1026"/>
              </a:spcBef>
              <a:buClr>
                <a:srgbClr val="ffffff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8f8f8"/>
                </a:solidFill>
                <a:latin typeface="Verdana"/>
              </a:rPr>
              <a:t>David</a:t>
            </a:r>
            <a:endParaRPr b="0" lang="en-US" sz="4100" spc="-1" strike="noStrike">
              <a:solidFill>
                <a:srgbClr val="f8f8f8"/>
              </a:solidFill>
              <a:latin typeface="Verdana"/>
            </a:endParaRPr>
          </a:p>
          <a:p>
            <a:pPr marL="552600" indent="-552600" algn="ctr">
              <a:spcBef>
                <a:spcPts val="1026"/>
              </a:spcBef>
              <a:buClr>
                <a:srgbClr val="ffffff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8f8f8"/>
                </a:solidFill>
                <a:latin typeface="Verdana"/>
              </a:rPr>
              <a:t>Solomon</a:t>
            </a:r>
            <a:endParaRPr b="0" lang="en-US" sz="41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04920" y="152280"/>
            <a:ext cx="4343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f8f8"/>
                </a:solidFill>
                <a:latin typeface="Arial"/>
              </a:rPr>
              <a:t>King David’s Empire</a:t>
            </a:r>
            <a:endParaRPr b="0" lang="en-US" sz="4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2590920"/>
            <a:ext cx="2354400" cy="3019320"/>
          </a:xfrm>
          <a:prstGeom prst="rect">
            <a:avLst/>
          </a:prstGeom>
          <a:ln w="9360">
            <a:solidFill>
              <a:srgbClr val="2a285a"/>
            </a:solidFill>
            <a:miter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362320" y="2666880"/>
            <a:ext cx="6553080" cy="3461040"/>
          </a:xfrm>
          <a:prstGeom prst="rect">
            <a:avLst/>
          </a:prstGeom>
          <a:ln w="9360">
            <a:solidFill>
              <a:srgbClr val="2a285a"/>
            </a:solidFill>
            <a:miter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5791320" y="0"/>
            <a:ext cx="3657600" cy="29131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7674120" y="5105520"/>
            <a:ext cx="14698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5105520" y="2743200"/>
            <a:ext cx="3429000" cy="19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f8f8"/>
                </a:solidFill>
                <a:latin typeface="Arial"/>
              </a:rPr>
              <a:t>Solomon’s</a:t>
            </a:r>
            <a:endParaRPr b="0" lang="en-US" sz="4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f8f8"/>
                </a:solidFill>
                <a:latin typeface="Arial"/>
              </a:rPr>
              <a:t>Kingdom</a:t>
            </a:r>
            <a:endParaRPr b="0" lang="en-US" sz="4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1954" t="3399" r="2443" b="8217"/>
          <a:stretch/>
        </p:blipFill>
        <p:spPr>
          <a:xfrm>
            <a:off x="762120" y="533520"/>
            <a:ext cx="3733560" cy="5943600"/>
          </a:xfrm>
          <a:prstGeom prst="rect">
            <a:avLst/>
          </a:prstGeom>
          <a:ln w="9360">
            <a:solidFill>
              <a:srgbClr val="2a285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57200" y="228600"/>
            <a:ext cx="8381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King Solomon’s Temple Floor Plan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629400" cy="4972320"/>
          </a:xfrm>
          <a:prstGeom prst="rect">
            <a:avLst/>
          </a:prstGeom>
          <a:ln w="9360">
            <a:solidFill>
              <a:srgbClr val="2a285a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2286000" y="6172200"/>
            <a:ext cx="4648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a88"/>
                </a:solidFill>
                <a:latin typeface="Architect"/>
              </a:rPr>
              <a:t>The First Temple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57200" y="228600"/>
            <a:ext cx="8381880" cy="26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f8f8"/>
                </a:solidFill>
                <a:latin typeface="Arial Unicode MS"/>
              </a:rPr>
              <a:t>Inside the Temple Tabernacle</a:t>
            </a:r>
            <a:endParaRPr b="0" lang="en-US" sz="4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f8f8"/>
                </a:solidFill>
                <a:latin typeface="Arial Unicode MS"/>
              </a:rPr>
              <a:t>(The Holy of Holies)</a:t>
            </a:r>
            <a:endParaRPr b="0" lang="en-US" sz="4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2209680"/>
            <a:ext cx="3962520" cy="2476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>
            <a:lum contrast="6000"/>
          </a:blip>
          <a:srcRect l="4347" t="0" r="4347" b="0"/>
          <a:stretch/>
        </p:blipFill>
        <p:spPr>
          <a:xfrm>
            <a:off x="3886200" y="2057400"/>
            <a:ext cx="5105520" cy="4194000"/>
          </a:xfrm>
          <a:prstGeom prst="rect">
            <a:avLst/>
          </a:prstGeom>
          <a:ln w="9360">
            <a:solidFill>
              <a:srgbClr val="2a285a"/>
            </a:solidFill>
            <a:miter/>
          </a:ln>
        </p:spPr>
      </p:pic>
      <p:sp>
        <p:nvSpPr>
          <p:cNvPr id="197" name=""/>
          <p:cNvSpPr/>
          <p:nvPr/>
        </p:nvSpPr>
        <p:spPr>
          <a:xfrm>
            <a:off x="228600" y="4952880"/>
            <a:ext cx="335268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a88"/>
                </a:solidFill>
                <a:latin typeface="Architect"/>
              </a:rPr>
              <a:t>The Ark</a:t>
            </a:r>
            <a:br>
              <a:rPr sz="2800"/>
            </a:br>
            <a:r>
              <a:rPr b="1" lang="en-US" sz="2800" spc="-1" strike="noStrike">
                <a:solidFill>
                  <a:srgbClr val="effa88"/>
                </a:solidFill>
                <a:latin typeface="Architect"/>
              </a:rPr>
              <a:t>of the</a:t>
            </a:r>
            <a:br>
              <a:rPr sz="2800"/>
            </a:br>
            <a:r>
              <a:rPr b="1" lang="en-US" sz="2800" spc="-1" strike="noStrike">
                <a:solidFill>
                  <a:srgbClr val="effa88"/>
                </a:solidFill>
                <a:latin typeface="Architect"/>
              </a:rPr>
              <a:t>Covenant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ey Vocabul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Verdana"/>
              </a:rPr>
              <a:t>Terms 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Verdana"/>
              </a:rPr>
              <a:t>monotheism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Verdana"/>
              </a:rPr>
              <a:t>covenant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Verdana"/>
              </a:rPr>
              <a:t>murex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Verdana"/>
              </a:rPr>
              <a:t>Names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Verdana"/>
              </a:rPr>
              <a:t>Palestine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Verdana"/>
              </a:rPr>
              <a:t>Canaan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Verdana"/>
              </a:rPr>
              <a:t>Abraham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Verdana"/>
              </a:rPr>
              <a:t>Torah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Verdana"/>
              </a:rPr>
              <a:t>Moses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Verdana"/>
              </a:rPr>
              <a:t>Phoenicians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587840"/>
          </a:xfrm>
          <a:prstGeom prst="rect">
            <a:avLst/>
          </a:prstGeom>
          <a:ln w="9360">
            <a:solidFill>
              <a:srgbClr val="2a285a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228600" y="228600"/>
            <a:ext cx="8686800" cy="77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8f8f8"/>
                </a:solidFill>
                <a:latin typeface="Arial Unicode MS"/>
              </a:rPr>
              <a:t>The Temple Mount</a:t>
            </a:r>
            <a:r>
              <a:rPr b="1" lang="en-US" sz="45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1" lang="en-US" sz="4500" spc="-1" strike="noStrike">
                <a:solidFill>
                  <a:srgbClr val="f8f8f8"/>
                </a:solidFill>
                <a:latin typeface="Arial Unicode MS"/>
              </a:rPr>
              <a:t>Today</a:t>
            </a:r>
            <a:endParaRPr b="0" lang="en-US" sz="45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6095880"/>
            <a:ext cx="8458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a88"/>
                </a:solidFill>
                <a:latin typeface="Architect"/>
              </a:rPr>
              <a:t>Solomon’s Temple Wall:  The “Wailing” Wal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572000" y="4647960"/>
            <a:ext cx="990720" cy="1523880"/>
          </a:xfrm>
          <a:prstGeom prst="line">
            <a:avLst/>
          </a:prstGeom>
          <a:ln w="28440">
            <a:solidFill>
              <a:srgbClr val="e82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0880" y="685800"/>
            <a:ext cx="3429000" cy="489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f8f8"/>
                </a:solidFill>
                <a:latin typeface="Arial Unicode MS"/>
              </a:rPr>
              <a:t>Kingdoms of</a:t>
            </a:r>
            <a:endParaRPr b="0" lang="en-US" sz="4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f8f8"/>
                </a:solidFill>
                <a:latin typeface="Arial Unicode MS"/>
              </a:rPr>
              <a:t>Judah</a:t>
            </a:r>
            <a:endParaRPr b="0" lang="en-US" sz="4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f8f8"/>
                </a:solidFill>
                <a:latin typeface="Arial Unicode MS"/>
              </a:rPr>
              <a:t>&amp;</a:t>
            </a:r>
            <a:endParaRPr b="0" lang="en-US" sz="4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f8f8"/>
                </a:solidFill>
                <a:latin typeface="Arial Unicode MS"/>
              </a:rPr>
              <a:t>Israel</a:t>
            </a:r>
            <a:endParaRPr b="0" lang="en-US" sz="4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4343400" cy="6858000"/>
          </a:xfrm>
          <a:prstGeom prst="rect">
            <a:avLst/>
          </a:prstGeom>
          <a:ln w="9360">
            <a:solidFill>
              <a:srgbClr val="2a285a"/>
            </a:solidFill>
            <a:miter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04920" y="318960"/>
            <a:ext cx="8534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f8f8"/>
                </a:solidFill>
                <a:latin typeface="Arial Unicode MS"/>
              </a:rPr>
              <a:t>Babylonian Captivity</a:t>
            </a:r>
            <a:endParaRPr b="0" lang="en-US" sz="4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523880" y="1160640"/>
            <a:ext cx="6172200" cy="5697360"/>
          </a:xfrm>
          <a:prstGeom prst="rect">
            <a:avLst/>
          </a:prstGeom>
          <a:ln w="9360">
            <a:solidFill>
              <a:srgbClr val="2a285a"/>
            </a:solidFill>
            <a:miter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eck 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What was the Babylonian captivity?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What were some of the main problems facing the Hebrews between 2000 BC and 700 BC?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Phoenicia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Achievement #1:Extraordinary shipbuilders and sailors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Government:City-States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Verdana"/>
              </a:rPr>
              <a:t>Sidon and Tyre made red-purple dye (60,000 snails made one 1 lb. brick)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f8f8f8"/>
                </a:solidFill>
                <a:latin typeface="Verdana"/>
              </a:rPr>
              <a:t>Byblos traded papyrus.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Verdana"/>
              </a:rPr>
              <a:t>Greatest colony was Carthage (Tyre)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442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Round-hulled ships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Goods: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Verdana"/>
              </a:rPr>
              <a:t>Murex (purple dye)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Verdana"/>
              </a:rPr>
              <a:t>Glass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Verdana"/>
              </a:rPr>
              <a:t>Lebanon cedar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216" name="Picture 10" descr="Image:Murex s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2362320"/>
            <a:ext cx="3200400" cy="20034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4" descr="Phoenician ship"/>
          <p:cNvPicPr/>
          <p:nvPr/>
        </p:nvPicPr>
        <p:blipFill>
          <a:blip r:embed="rId3"/>
          <a:stretch/>
        </p:blipFill>
        <p:spPr>
          <a:xfrm>
            <a:off x="5943600" y="380880"/>
            <a:ext cx="2743200" cy="17290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5486400" y="4572000"/>
            <a:ext cx="342900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hoenician Trade Rou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447920" y="1593720"/>
            <a:ext cx="7010280" cy="52642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rcRect l="7811" t="15627" r="41408" b="18753"/>
          <a:stretch/>
        </p:blipFill>
        <p:spPr>
          <a:xfrm>
            <a:off x="1981080" y="1386000"/>
            <a:ext cx="5639040" cy="54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Phoenician Alphab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rcRect l="10155" t="26042" r="46875" b="36462"/>
          <a:stretch/>
        </p:blipFill>
        <p:spPr>
          <a:xfrm>
            <a:off x="685800" y="1828800"/>
            <a:ext cx="6324480" cy="41403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rcRect l="57036" t="0" r="0" b="0"/>
          <a:stretch/>
        </p:blipFill>
        <p:spPr>
          <a:xfrm>
            <a:off x="7040520" y="762120"/>
            <a:ext cx="21034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eck 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What is Phoenician’s greatest legacy, extensive trade and cultural diffusion or the 1st alphabet?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Objec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Summarize the history and beliefs of the Hebrews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Explain the historical and cultural significance of Exodus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Identify and evaluate the contributions of the Phoenicians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Ancient Hebre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Location-South Western Fertile Crescent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Verdana"/>
              </a:rPr>
              <a:t>Canaan (later Israel)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Significance-Worlds 1</a:t>
            </a:r>
            <a:r>
              <a:rPr b="0" lang="en-US" sz="2900" spc="-1" strike="noStrike" baseline="30000">
                <a:solidFill>
                  <a:srgbClr val="f8f8f8"/>
                </a:solidFill>
                <a:latin typeface="Verdana"/>
              </a:rPr>
              <a:t>st</a:t>
            </a: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 Monotheistic Religion: Judaism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Verdana"/>
              </a:rPr>
              <a:t>Belief in Yahweh (Hebrew name for God)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Verdana"/>
              </a:rPr>
              <a:t>Believed to be “God’s Chosen People”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Founder: Abram (later Abraham)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228600"/>
            <a:ext cx="838188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66"/>
                </a:solidFill>
                <a:latin typeface="Tahoma"/>
              </a:rPr>
              <a:t>Abraham-Patriarch of Monotheism</a:t>
            </a:r>
            <a:endParaRPr b="0" lang="en-US" sz="5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1905120"/>
            <a:ext cx="228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a88"/>
                </a:solidFill>
                <a:latin typeface="Architect"/>
              </a:rPr>
              <a:t>ABRAHAM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2133720"/>
            <a:ext cx="1219320" cy="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209680"/>
            <a:ext cx="1219320" cy="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2133720"/>
            <a:ext cx="1219320" cy="0"/>
          </a:xfrm>
          <a:prstGeom prst="line">
            <a:avLst/>
          </a:prstGeom>
          <a:ln w="9360">
            <a:solidFill>
              <a:srgbClr val="f6fcc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0" y="2209680"/>
            <a:ext cx="1219320" cy="0"/>
          </a:xfrm>
          <a:prstGeom prst="line">
            <a:avLst/>
          </a:prstGeom>
          <a:ln w="9360">
            <a:solidFill>
              <a:srgbClr val="f6fcc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05720" y="1905120"/>
            <a:ext cx="1600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a88"/>
                </a:solidFill>
                <a:latin typeface="Architect"/>
              </a:rPr>
              <a:t>SARAH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1905120"/>
            <a:ext cx="1600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d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chitect"/>
              </a:rPr>
              <a:t>HAGAR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286000"/>
            <a:ext cx="0" cy="60948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86400" y="2819520"/>
            <a:ext cx="1600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a88"/>
                </a:solidFill>
                <a:latin typeface="Architect"/>
              </a:rPr>
              <a:t>Isaac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3276720"/>
            <a:ext cx="0" cy="53316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0" y="3809880"/>
            <a:ext cx="1523880" cy="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3809880"/>
            <a:ext cx="0" cy="30492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3809880"/>
            <a:ext cx="0" cy="30492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4038480"/>
            <a:ext cx="1600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a88"/>
                </a:solidFill>
                <a:latin typeface="Architect"/>
              </a:rPr>
              <a:t>Esau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038480"/>
            <a:ext cx="1600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a88"/>
                </a:solidFill>
                <a:latin typeface="Architect"/>
              </a:rPr>
              <a:t>Jacob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4876920"/>
            <a:ext cx="2514600" cy="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876920"/>
            <a:ext cx="0" cy="30456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19720" y="4876920"/>
            <a:ext cx="0" cy="30456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4876920"/>
            <a:ext cx="0" cy="30456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76920" y="4876920"/>
            <a:ext cx="0" cy="30456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4876920"/>
            <a:ext cx="0" cy="30456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4120" y="4876920"/>
            <a:ext cx="0" cy="30456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4876920"/>
            <a:ext cx="0" cy="30456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1320" y="4876920"/>
            <a:ext cx="0" cy="30456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19920" y="4876920"/>
            <a:ext cx="0" cy="30456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48520" y="4876920"/>
            <a:ext cx="0" cy="30456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77120" y="4876920"/>
            <a:ext cx="0" cy="30456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05720" y="4876920"/>
            <a:ext cx="0" cy="30456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4572000"/>
            <a:ext cx="0" cy="30492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5195880"/>
            <a:ext cx="29718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a88"/>
                </a:solidFill>
                <a:latin typeface="Architect"/>
              </a:rPr>
              <a:t>12 Tribes of Isra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2286000"/>
            <a:ext cx="0" cy="60948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2819520"/>
            <a:ext cx="16002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d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chitect"/>
              </a:rPr>
              <a:t>Ishma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3657600"/>
            <a:ext cx="2514600" cy="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3649680"/>
            <a:ext cx="1800" cy="31284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3649680"/>
            <a:ext cx="1800" cy="31284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09680" y="3649680"/>
            <a:ext cx="1800" cy="31284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3649680"/>
            <a:ext cx="1800" cy="31284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3649680"/>
            <a:ext cx="1800" cy="31284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95480" y="3649680"/>
            <a:ext cx="1800" cy="31284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3649680"/>
            <a:ext cx="1800" cy="31284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3649680"/>
            <a:ext cx="1800" cy="31284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81280" y="3649680"/>
            <a:ext cx="1800" cy="31284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9880" y="3649680"/>
            <a:ext cx="1800" cy="31284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3649680"/>
            <a:ext cx="1800" cy="31284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65640" y="3649680"/>
            <a:ext cx="1440" cy="31284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3344760"/>
            <a:ext cx="1800" cy="31284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3962520"/>
            <a:ext cx="29718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d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chitect"/>
              </a:rPr>
              <a:t>12 Arabian Tribe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05720" y="5638680"/>
            <a:ext cx="1981080" cy="914400"/>
          </a:xfrm>
          <a:prstGeom prst="wedgeRectCallout">
            <a:avLst>
              <a:gd name="adj1" fmla="val -89902"/>
              <a:gd name="adj2" fmla="val -47393"/>
            </a:avLst>
          </a:prstGeom>
          <a:solidFill>
            <a:srgbClr val="999966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Judaism &amp; Christianity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4419720"/>
            <a:ext cx="1828800" cy="533160"/>
          </a:xfrm>
          <a:prstGeom prst="wedgeRectCallout">
            <a:avLst>
              <a:gd name="adj1" fmla="val 95921"/>
              <a:gd name="adj2" fmla="val -48513"/>
            </a:avLst>
          </a:prstGeom>
          <a:solidFill>
            <a:srgbClr val="999966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Islam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87836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28600" y="1066680"/>
            <a:ext cx="2971800" cy="1747440"/>
          </a:xfrm>
          <a:prstGeom prst="rect">
            <a:avLst/>
          </a:prstGeom>
          <a:solidFill>
            <a:srgbClr val="465174"/>
          </a:solidFill>
          <a:ln w="9360">
            <a:solidFill>
              <a:srgbClr val="99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Hebrew Social Structure: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The 12 Tribes of Isra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4920" y="152280"/>
            <a:ext cx="8534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 Unicode MS"/>
              </a:rPr>
              <a:t>Abraham’s Journey from Ur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762120" y="893880"/>
            <a:ext cx="7696080" cy="5126040"/>
          </a:xfrm>
          <a:prstGeom prst="rect">
            <a:avLst/>
          </a:prstGeom>
          <a:ln w="9360">
            <a:solidFill>
              <a:srgbClr val="2a285a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304920" y="6110280"/>
            <a:ext cx="8610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a88"/>
                </a:solidFill>
                <a:latin typeface="Architect"/>
              </a:rPr>
              <a:t>Canaan </a:t>
            </a:r>
            <a:r>
              <a:rPr b="1" lang="en-US" sz="2800" spc="-1" strike="noStrike">
                <a:solidFill>
                  <a:srgbClr val="effa88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effa88"/>
                </a:solidFill>
                <a:latin typeface="Architect"/>
              </a:rPr>
              <a:t> The “Promised Land”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04920" y="166680"/>
            <a:ext cx="8534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f8f8"/>
                </a:solidFill>
                <a:latin typeface="Arial Unicode MS"/>
              </a:rPr>
              <a:t>Abraham’s Journeys</a:t>
            </a:r>
            <a:endParaRPr b="0" lang="en-US" sz="4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332" t="5263" r="332" b="0"/>
          <a:stretch/>
        </p:blipFill>
        <p:spPr>
          <a:xfrm>
            <a:off x="762120" y="1066680"/>
            <a:ext cx="7619760" cy="5486400"/>
          </a:xfrm>
          <a:prstGeom prst="rect">
            <a:avLst/>
          </a:prstGeom>
          <a:ln w="9360">
            <a:solidFill>
              <a:srgbClr val="2a285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eck 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Where did Abraham and his family originally come from?  Where did they go?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04920" y="380880"/>
            <a:ext cx="85341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Unicode MS"/>
              </a:rPr>
              <a:t>The Torah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6110280"/>
            <a:ext cx="3352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a88"/>
                </a:solidFill>
                <a:latin typeface="Architect"/>
              </a:rPr>
              <a:t>The </a:t>
            </a:r>
            <a:r>
              <a:rPr b="1" i="1" lang="en-US" sz="2800" spc="-1" strike="noStrike">
                <a:solidFill>
                  <a:srgbClr val="effa88"/>
                </a:solidFill>
                <a:latin typeface="Architect"/>
              </a:rPr>
              <a:t>Torah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855720" y="1295280"/>
            <a:ext cx="3411360" cy="4724640"/>
          </a:xfrm>
          <a:prstGeom prst="rect">
            <a:avLst/>
          </a:prstGeom>
          <a:ln w="9360">
            <a:solidFill>
              <a:srgbClr val="2a285a"/>
            </a:solidFill>
            <a:miter/>
          </a:ln>
        </p:spPr>
      </p:pic>
      <p:sp>
        <p:nvSpPr>
          <p:cNvPr id="161" name=""/>
          <p:cNvSpPr/>
          <p:nvPr/>
        </p:nvSpPr>
        <p:spPr>
          <a:xfrm>
            <a:off x="5181480" y="2160720"/>
            <a:ext cx="3124440" cy="309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82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a88"/>
                </a:solidFill>
                <a:latin typeface="Architect"/>
              </a:rPr>
              <a:t> </a:t>
            </a:r>
            <a:r>
              <a:rPr b="1" lang="en-US" sz="2400" spc="-1" strike="noStrike">
                <a:solidFill>
                  <a:srgbClr val="effa88"/>
                </a:solidFill>
                <a:latin typeface="Arial"/>
              </a:rPr>
              <a:t>The first 5 books</a:t>
            </a:r>
            <a:br>
              <a:rPr sz="2400"/>
            </a:br>
            <a:r>
              <a:rPr b="1" lang="en-US" sz="2400" spc="-1" strike="noStrike">
                <a:solidFill>
                  <a:srgbClr val="effa88"/>
                </a:solidFill>
                <a:latin typeface="Arial"/>
              </a:rPr>
              <a:t>   of the Hebrew</a:t>
            </a:r>
            <a:br>
              <a:rPr sz="2400"/>
            </a:br>
            <a:r>
              <a:rPr b="1" lang="en-US" sz="2400" spc="-1" strike="noStrike">
                <a:solidFill>
                  <a:srgbClr val="effa88"/>
                </a:solidFill>
                <a:latin typeface="Arial"/>
              </a:rPr>
              <a:t>   Bible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82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a8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ffa88"/>
                </a:solidFill>
                <a:latin typeface="Arial"/>
              </a:rPr>
              <a:t>The most sacred</a:t>
            </a:r>
            <a:br>
              <a:rPr sz="2400"/>
            </a:br>
            <a:r>
              <a:rPr b="1" lang="en-US" sz="2400" spc="-1" strike="noStrike">
                <a:solidFill>
                  <a:srgbClr val="effa88"/>
                </a:solidFill>
                <a:latin typeface="Arial"/>
              </a:rPr>
              <a:t>   text in the Jewish</a:t>
            </a:r>
            <a:br>
              <a:rPr sz="2400"/>
            </a:br>
            <a:r>
              <a:rPr b="1" lang="en-US" sz="2400" spc="-1" strike="noStrike">
                <a:solidFill>
                  <a:srgbClr val="effa88"/>
                </a:solidFill>
                <a:latin typeface="Arial"/>
              </a:rPr>
              <a:t>   religious tradition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e82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ffa88"/>
                </a:solidFill>
                <a:latin typeface="Arial"/>
              </a:rPr>
              <a:t>God’s covenant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16:16:42Z</dcterms:created>
  <dc:creator>Chris</dc:creator>
  <dc:description/>
  <dc:language>en-US</dc:language>
  <cp:lastModifiedBy>Chris</cp:lastModifiedBy>
  <dcterms:modified xsi:type="dcterms:W3CDTF">2009-10-19T00:21:42Z</dcterms:modified>
  <cp:revision>10</cp:revision>
  <dc:subject/>
  <dc:title>Characteristics of Civilization:  The Hebrews and Phoenicians</dc:title>
</cp:coreProperties>
</file>